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279-1050-460C-8BE0-BD432CD6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1BE-B73B-49BE-9BC7-A1E6175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80358-3A03-4EA3-8ED3-93939B2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8F3FE-9A3F-4020-8DF7-080FC36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8115F-227C-40D6-8A39-630B8781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19511-F0E6-4657-ABCA-A83D62F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BB30C-9CE3-47B3-9F5D-A818B1F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BBCDC-A3A6-4EA1-A7E0-11633F3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35FEE-4006-49DD-A2A2-B3B4DB3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1C63-61AA-4EA5-AC66-4A94BFD9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78AB0-DDD5-409A-910B-DBD8709A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A4121-6607-4255-859B-D1F4E647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F49-EAD5-459C-94A8-4D6CD8C9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08256-704A-4682-807E-8B69466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36A5F-29FA-4DD2-9A38-1047C3C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A2FD8-AD82-4ED3-A028-AFEF05DA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D8DC0-D0B5-4306-8CDA-AEE9D83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3B725-A711-4E32-B62A-123775CE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086A-49F5-45D2-9344-C2D185C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15008-A09F-4575-A382-0BC168C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454AB-E11F-439A-9AB6-653DDD3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99C12-C45F-4941-A9B1-3CBAB77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20E14-B6BB-4DE8-BA09-900AA70E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BEA-0534-40F9-AD2D-975FB99F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CD6F9-1CAC-4615-AE23-3E7B8AFB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29F14-FC3A-4D57-A164-AD576A86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276BD-EA5B-44B0-96A4-6AC6B80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B239A-4E5E-4109-9117-8B4B43A2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11F9-A0A8-4F8F-9191-EEF89C5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E104E-7285-4A88-94CB-AE4846DE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C8553-7447-4051-8505-B1DE826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BFDFD-7C7C-4440-9333-06DBD10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DB570-C841-4010-8216-60B0488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06352-778A-48E6-95D8-79D8735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BA4-4CF4-4AAD-96E2-201639D3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5006-8CDB-4C4C-8CA3-04F1D7D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021F9-7737-4423-A059-B1181DBA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ABF3D-EE52-4B6A-8F2E-565FC6CE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4D2-1B9E-4231-A30D-FAA4BD48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117-DD35-4EB3-B655-C2C6D309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E61E-8A45-430A-80E9-AF0D63C8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2F0-BF7A-4F26-8709-A93FA236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5802-35E7-4BC4-8C27-D41E73A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0C1-6FBA-42D3-95CB-9B8EAEB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D2A-7010-4018-824C-161E1BC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E87-B227-426C-906D-1F66116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DD16-DFFE-4792-B163-AECEA25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C1E-45E9-4AB5-9A73-07C1567D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67B-2184-4242-B151-6B8A14A9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79F9-4E5E-4EF1-B70A-6266BDAC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C5E8-9003-4FBB-84C5-9F21907D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C23F-8C8B-4507-8591-782183D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47C0-CDB9-4DC5-93F3-A5865E1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FEAA-0AF3-47EB-BA8B-6FB02AC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DBE1-56D7-4658-9A31-98457BE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966-8ACF-4441-A339-8A1CC772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1577-7AA8-4A8E-B8AF-FBEE2A9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6485-D771-48E4-845C-1AED61E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DFD6-CEB2-4C06-BD95-4F4F0022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9659-BFD0-4D03-A7C9-D53B93B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234A-AE56-4294-BDF0-23CCB5E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EEE0-4A52-4C27-8AC2-69DE7BA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399B-1385-4B69-9AC7-7245FA20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7B39-B5C7-4079-B28F-32920E3E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4F50-367F-43DC-A4E0-83D99EB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5BBC-98CA-4E13-8CD7-E84939BC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E4D-07E5-46DE-92C0-00FF30A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1616-EA5C-4CA7-9910-03EE4C46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5D58-8625-4481-9B0C-F237742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12CD-BEA0-4F10-B564-879AEBAE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0B4B-1C16-43C2-B882-20504CC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6506-1719-4F17-B71E-EBF5D05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8E2D-B4E0-4FD5-93F8-6CD0950B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8B9D-9CE7-4BC9-B09C-3C5119A5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062E-1955-401E-BF6D-9B7CE266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F84F-3926-4145-A486-C02E9FC0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3C70-9158-416F-85BA-986B8F1F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A84-3CD5-4BB5-B08D-39153843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78F8-8796-431C-8974-8FD4637E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45DC-4679-41CC-98E4-A85BE851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EB6F-804B-47DA-813C-FE155755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1126-CD83-4F44-9859-1A4357F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D60F-8A7F-473E-89A5-06AE9D00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3CE4-F5EC-4CDD-9E35-58BD0D6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D957-68BA-4224-805F-CC87AA6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6312-B9D8-4FDB-B477-4AA7F822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27627-F3B8-4F4E-9ECB-EE9F139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9C7E-D200-42A6-9EAA-43DE49AB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A1A-33E7-4CAE-9C8D-9661844A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7CAD-AF4F-48B8-9CB9-8DB180BE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3AF95-D24A-458E-A039-38A0C85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EC88-2B94-466A-94B3-FBAA366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50C0-DC66-4BC8-B06F-F886653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0D79-539B-4DA5-A4E5-0CA4E921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96D8-BDB9-489E-8289-00BB202E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D953-413A-4CF6-B0C0-BBBBF00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59B0-FC8D-4A3A-8E0D-755AED9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D0D6-E0B4-4267-A389-1506EBA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7664-EF54-42C5-AD6F-1BDC8BB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0DE-2302-49F9-8512-621F090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559D-8A37-4091-B439-A510FE0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6C89-A0AF-47FC-9C85-754A4AA7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57DC-9619-4D08-B69E-8D9B455D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26A0-3106-4235-99F7-594780A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7CFCF-1477-4E3F-BD1E-9056AE9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56E33-3BB3-4CA3-8E9B-E48B77E8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1774-A72B-452D-AAF8-1A3AC07C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93FD-7B3A-474F-B3C7-479843B0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BD3F-514B-4341-9D53-7F4F7EF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4649C-CF37-4D20-BD06-6F18207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48D-06A3-401C-91C2-7E1DB982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37F7C-EA65-4DE2-B7E7-AA94724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C5A42-F8BE-43FE-9A83-7324461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7779-AA01-455D-82BC-D2149F8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B9B4-CB8C-4CCA-8A82-489B37D1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7848-5841-4D6C-8D8A-6A5EE9FD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5B18-88CE-4F2F-B9BC-0A309FDB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1299B-2BD2-470C-B57D-1E86E730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33F8-BF6C-4343-AD48-E8960210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0091E-1424-4E5E-BF04-4C26A96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75BEC-861F-4AFB-92D9-097A60AE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B66-2CF8-474A-A739-7FD23DC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7F71-B127-4EAF-AC7D-D90FA646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FE68-6972-4EDD-AB40-A1612B2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A9ECC-B3AA-4457-AA04-01D7921E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6222-B4D5-4F1F-A533-A3053BC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6442C-2C31-416D-84AA-11E7BB3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2E53-7CB7-42E1-93F2-A2854B4D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D6D36-71D8-4E9F-AA5F-BABA6FD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69B4-90CD-4A99-A487-9AC3F0A8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68F6A-EE6D-45E8-A7AC-FBE8368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462FC-DE68-4DED-A1CB-8B6FFEE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24F-E046-408D-9AEA-696BEDADB6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22F-9AD0-430F-8A33-9030988D57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B65-17C2-47CE-9CA4-6AB87F35E0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1F6-474F-4B38-AEA3-55C7529C1E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BEA-4A81-4A0A-BE17-39EBC6713F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B4E4-452A-4107-8E1B-AE57DBDCDE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7E0-6EA0-44AC-B2D7-F3BA8F1CFD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7E6-329C-4079-BBFF-3E1F3F2774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50A-24D2-40C1-B612-43C8F128B1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6D3-4243-4210-9AE9-C9D01B4FAA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5CC3-36C0-48BB-88EF-3A99B957F0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ext Box 5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1992240"/>
          </a:xfrm>
          <a:prstGeom prst="rect">
            <a:avLst/>
          </a:prstGeom>
          <a:ln w="0">
            <a:noFill/>
          </a:ln>
        </p:spPr>
      </p:pic>
      <p:pic>
        <p:nvPicPr>
          <p:cNvPr id="463" name="Text Box 5" descr=""/>
          <p:cNvPicPr/>
          <p:nvPr/>
        </p:nvPicPr>
        <p:blipFill>
          <a:blip r:embed="rId2"/>
          <a:stretch/>
        </p:blipFill>
        <p:spPr>
          <a:xfrm>
            <a:off x="0" y="3959280"/>
            <a:ext cx="9144000" cy="99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"/>
          <p:cNvSpPr/>
          <p:nvPr/>
        </p:nvSpPr>
        <p:spPr>
          <a:xfrm>
            <a:off x="2955960" y="17654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长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的一根绳子，围成一个矩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面积的最大值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"/>
          <p:cNvSpPr/>
          <p:nvPr/>
        </p:nvSpPr>
        <p:spPr>
          <a:xfrm>
            <a:off x="1307880" y="1341360"/>
            <a:ext cx="63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总长度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m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不锈钢材料制成如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示的外观为矩形的框架，其横档和竖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,AB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行。设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=xm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，矩形框架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203640" y="4746600"/>
          <a:ext cx="3940200" cy="1728720"/>
        </p:xfrm>
        <a:graphic>
          <a:graphicData uri="http://schemas.openxmlformats.org/drawingml/2006/table">
            <a:tbl>
              <a:tblPr/>
              <a:tblGrid>
                <a:gridCol w="1328760"/>
                <a:gridCol w="1260360"/>
                <a:gridCol w="135108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Box 7"/>
          <p:cNvSpPr/>
          <p:nvPr/>
        </p:nvSpPr>
        <p:spPr>
          <a:xfrm>
            <a:off x="247464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2489760" y="61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9"/>
          <p:cNvSpPr/>
          <p:nvPr/>
        </p:nvSpPr>
        <p:spPr>
          <a:xfrm>
            <a:off x="7337160" y="621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735228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4" name="矩形 4"/>
          <p:cNvSpPr/>
          <p:nvPr/>
        </p:nvSpPr>
        <p:spPr>
          <a:xfrm>
            <a:off x="351000" y="1341360"/>
            <a:ext cx="86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一工艺师生产的某种产品按质量分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个档次，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档次（最低档次）的产品一天能生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每件可获利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。产品每提高一个档次，每件产品的利润增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，但一天产量减少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如果只从生产利润这一角度考虑，他生产哪个档次的产品，可获得最大利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1066680" y="114300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二次函数应用的解题思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回顾本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利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解决问题的过程，你能总结一下解决此类问题的</a:t>
            </a:r>
            <a:r>
              <a:rPr b="1" lang="zh-CN" sz="2800" spc="-1" strike="noStrike">
                <a:solidFill>
                  <a:srgbClr val="7979a5"/>
                </a:solidFill>
                <a:latin typeface="隶书"/>
                <a:ea typeface="宋体"/>
              </a:rPr>
              <a:t>基本思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吗？与同伴交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7200" y="3505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理解问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45720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问题中的变量和常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以及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45720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学的方式表示出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457200" y="5257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做数学求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457200" y="5791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检验结果的合理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7:24:15Z</dcterms:created>
  <dc:creator>lijunhua</dc:creator>
  <dc:description/>
  <dc:language>en-US</dc:language>
  <cp:lastModifiedBy>Administrator</cp:lastModifiedBy>
  <dcterms:modified xsi:type="dcterms:W3CDTF">2018-12-29T07:25:50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